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jpeg" ContentType="image/jpeg"/>
  <Override PartName="/ppt/media/image32.wmf" ContentType="image/x-wmf"/>
  <Override PartName="/ppt/media/image20.wmf" ContentType="image/x-wmf"/>
  <Override PartName="/ppt/media/image17.png" ContentType="image/png"/>
  <Override PartName="/ppt/media/image12.jpeg" ContentType="image/jpeg"/>
  <Override PartName="/ppt/media/image8.wmf" ContentType="image/x-wmf"/>
  <Override PartName="/ppt/media/image13.png" ContentType="image/png"/>
  <Override PartName="/ppt/media/image9.wmf" ContentType="image/x-wmf"/>
  <Override PartName="/ppt/media/image10.jpeg" ContentType="image/jpeg"/>
  <Override PartName="/ppt/media/image26.png" ContentType="image/png"/>
  <Override PartName="/ppt/media/image1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33.png" ContentType="image/png"/>
  <Override PartName="/ppt/media/image37.wmf" ContentType="image/x-wmf"/>
  <Override PartName="/ppt/media/image7.wmf" ContentType="image/x-wmf"/>
  <Override PartName="/ppt/media/image36.wmf" ContentType="image/x-wmf"/>
  <Override PartName="/ppt/media/image3.wmf" ContentType="image/x-wmf"/>
  <Override PartName="/ppt/media/image2.jpeg" ContentType="image/jpeg"/>
  <Override PartName="/ppt/media/image23.jpeg" ContentType="image/jpeg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5.wmf" ContentType="image/x-wmf"/>
  <Override PartName="/ppt/media/image16.jpeg" ContentType="image/jpeg"/>
  <Override PartName="/ppt/media/image35.wmf" ContentType="image/x-wmf"/>
  <Override PartName="/ppt/media/image6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Click to move the slide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C4F58D-7B49-49B2-8B8E-80A2ACFD5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A9C60C-9580-4159-9A92-647F8786A9E4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372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31800" y="4908240"/>
            <a:ext cx="5911920" cy="328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443A26-0EE4-4F14-B44A-5439EC043222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You are asked for the wave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You are given the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The speed of light is c = f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λ = c ÷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3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/sec) ÷ (600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z) = 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1C7ED0-CF69-44E8-888D-F81832CA577E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372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5960" y="4903560"/>
            <a:ext cx="5805720" cy="34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7A67F27-CE05-493E-8147-217A554DBBD8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1160" y="69372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5960" y="4903560"/>
            <a:ext cx="5805720" cy="34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967987-8E20-49CE-8630-6490CCF34A33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light that you see i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polariz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oes not mean the light has no polariz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 is actually an equal mixture of all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ordinary light unpolarized because no single polarization dominates the mix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67C619-2A21-4433-9040-C00B30F4DBBA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asy way to think about polarization is to think about shaking a spring back and fo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pring is shaken up and down it makes vertical polariz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pring is shaken back and forth it makes horizontal polariz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 mov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lo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ring in its long dir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scillation of the wave (and its polarization) i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ransver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perpendicular to the direction the wave tra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8F2C5E-2817-4648-A772-5E2695904996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light that you see i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polariz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oes not mean the light has no polariz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 is actually an equal mixture of all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ordinary light unpolarized because no single polarization dominates the mix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6A8EFE6-01A5-409B-B0A8-0E10203C882B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light that you see i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polariz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oes not mean the light has no polariz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 is actually an equal mixture of all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ordinary light unpolarized because no single polarization dominates the mix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CA9720-E5C2-42D6-98E0-B4B799D8302E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1160" y="69372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5960" y="4903560"/>
            <a:ext cx="5805720" cy="34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8C4467-7CE6-47A4-B524-5DC004E53F1E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1160" y="69372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383760" y="4816080"/>
            <a:ext cx="6288120" cy="24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523E1E-272F-4042-A9FA-C892DCE7999D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You are asked for energy in joules and gallons of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You are given the mass, a percent converted to energy, and J/gallon for gaso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Einstein’s formula: 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The amount of mass converted to energy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0.007 x 100 kg = 0.7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released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(0.7 kg)(3 x 108 m/sec)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6.3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the equivalent in gasoline divide by the energy per gall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6.3 x 1016 J ÷ 1.3 x 108 J/g = 4.8 x 108 gall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480 million gallons ofgaso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0D0553-233E-4A9C-A82F-5D0D8A37806C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1160" y="69372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5960" y="4903560"/>
            <a:ext cx="5805720" cy="34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821052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373640"/>
            <a:ext cx="821052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7840" y="240660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37364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87840" y="437364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264348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56480" y="2406600"/>
            <a:ext cx="264348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2440" y="2406600"/>
            <a:ext cx="264348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373640"/>
            <a:ext cx="264348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56480" y="4373640"/>
            <a:ext cx="264348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2440" y="4373640"/>
            <a:ext cx="264348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2406600"/>
            <a:ext cx="82105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82105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400644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87840" y="2406600"/>
            <a:ext cx="400644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8240" y="1165320"/>
            <a:ext cx="89154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87840" y="2406600"/>
            <a:ext cx="400644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520" y="437364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2406600"/>
            <a:ext cx="82105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400644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87840" y="240660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87840" y="437364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87840" y="240660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4373640"/>
            <a:ext cx="821052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821052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520" y="4373640"/>
            <a:ext cx="821052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7840" y="240660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37364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87840" y="437364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264348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56480" y="2406600"/>
            <a:ext cx="264348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32440" y="2406600"/>
            <a:ext cx="264348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520" y="4373640"/>
            <a:ext cx="264348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56480" y="4373640"/>
            <a:ext cx="264348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32440" y="4373640"/>
            <a:ext cx="264348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82105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400644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87840" y="2406600"/>
            <a:ext cx="400644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240" y="1165320"/>
            <a:ext cx="89154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87840" y="2406600"/>
            <a:ext cx="400644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37364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400644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7840" y="240660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87840" y="437364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7840" y="240660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373640"/>
            <a:ext cx="821052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2406600"/>
            <a:ext cx="82105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spcBef>
                <a:spcPts val="87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lvl="1" marL="682560" indent="-423720">
              <a:spcBef>
                <a:spcPts val="876"/>
              </a:spcBef>
              <a:buClr>
                <a:srgbClr val="0099ff"/>
              </a:buClr>
              <a:buFont typeface="Futura Md B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lvl="2" marL="977760" indent="-293400">
              <a:spcBef>
                <a:spcPts val="876"/>
              </a:spcBef>
              <a:buClr>
                <a:srgbClr val="00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lvl="3" marL="1262160" indent="-282600">
              <a:spcBef>
                <a:spcPts val="876"/>
              </a:spcBef>
              <a:buClr>
                <a:srgbClr val="0099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lvl="4" marL="1506600" indent="-243000">
              <a:spcBef>
                <a:spcPts val="876"/>
              </a:spcBef>
              <a:buClr>
                <a:srgbClr val="0099ff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lvl="5" marL="1506600" indent="-243000">
              <a:spcBef>
                <a:spcPts val="876"/>
              </a:spcBef>
              <a:buClr>
                <a:srgbClr val="000099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lvl="6" marL="1506600" indent="-243000">
              <a:spcBef>
                <a:spcPts val="876"/>
              </a:spcBef>
              <a:buClr>
                <a:srgbClr val="000099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Line 6"/>
          <p:cNvSpPr/>
          <p:nvPr/>
        </p:nvSpPr>
        <p:spPr>
          <a:xfrm>
            <a:off x="474840" y="3429000"/>
            <a:ext cx="8211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380520" y="2406600"/>
            <a:ext cx="82105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spcBef>
                <a:spcPts val="87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lvl="1" marL="682560" indent="-423720">
              <a:spcBef>
                <a:spcPts val="876"/>
              </a:spcBef>
              <a:buClr>
                <a:srgbClr val="0099ff"/>
              </a:buClr>
              <a:buFont typeface="Futura Md B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lvl="2" marL="977760" indent="-293400">
              <a:spcBef>
                <a:spcPts val="876"/>
              </a:spcBef>
              <a:buClr>
                <a:srgbClr val="00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lvl="3" marL="1262160" indent="-282600">
              <a:spcBef>
                <a:spcPts val="876"/>
              </a:spcBef>
              <a:buClr>
                <a:srgbClr val="0099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lvl="4" marL="1506600" indent="-243000">
              <a:spcBef>
                <a:spcPts val="876"/>
              </a:spcBef>
              <a:buClr>
                <a:srgbClr val="0099ff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lvl="5" marL="1506600" indent="-243000">
              <a:spcBef>
                <a:spcPts val="876"/>
              </a:spcBef>
              <a:buClr>
                <a:srgbClr val="000099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lvl="6" marL="1506600" indent="-243000">
              <a:spcBef>
                <a:spcPts val="876"/>
              </a:spcBef>
              <a:buClr>
                <a:srgbClr val="000099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5880"/>
            <a:ext cx="45655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Futura Md BT"/>
              </a:rPr>
              <a:t>Unit 6, Chapter 18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487520" y="3063960"/>
            <a:ext cx="439560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28600" y="156240"/>
            <a:ext cx="640728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ill Sans MT"/>
              </a:rPr>
              <a:t>CPO Science</a:t>
            </a:r>
            <a:endParaRPr b="0" lang="en-US" sz="4400" spc="-1" strike="noStrike">
              <a:solidFill>
                <a:srgbClr val="000099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ill Sans MT"/>
              </a:rPr>
              <a:t>Foundations of Physics</a:t>
            </a:r>
            <a:endParaRPr b="0" lang="en-US" sz="4400" spc="-1" strike="noStrike">
              <a:solidFill>
                <a:srgbClr val="000099"/>
              </a:solidFill>
              <a:latin typeface="Symbo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1 Calculate wavelength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43400" y="2406240"/>
            <a:ext cx="4248000" cy="17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33640" indent="-233640">
              <a:spcBef>
                <a:spcPts val="87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Calculate the wavelength in air of blue-green light that has a frequency of 600 × 1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Futura Md BT"/>
              </a:rPr>
              <a:t>12</a:t>
            </a: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 Hz.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3276360" cy="1222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"/>
          <p:cNvPicPr/>
          <p:nvPr/>
        </p:nvPicPr>
        <p:blipFill>
          <a:blip r:embed="rId2"/>
          <a:stretch/>
        </p:blipFill>
        <p:spPr>
          <a:xfrm>
            <a:off x="0" y="4551480"/>
            <a:ext cx="91440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1164960"/>
            <a:ext cx="891540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1 Waves of the electromagnetic spectrum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821052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167040" indent="-167040">
              <a:spcBef>
                <a:spcPts val="87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utura Md BT"/>
              </a:rPr>
              <a:t>Visible light</a:t>
            </a: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 is a small part of the energy range of electromagnetic waves. 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marL="167040" indent="-167040">
              <a:spcBef>
                <a:spcPts val="87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The whole range is called the electromagnetic spectrum and visible light is in the middle of it.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marL="167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24" name="Picture 8" descr="24_1 electromagneticspec"/>
          <p:cNvPicPr/>
          <p:nvPr/>
        </p:nvPicPr>
        <p:blipFill>
          <a:blip r:embed="rId1"/>
          <a:srcRect l="0" t="19978" r="0" b="25906"/>
          <a:stretch/>
        </p:blipFill>
        <p:spPr>
          <a:xfrm>
            <a:off x="1523880" y="4343400"/>
            <a:ext cx="659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1164960"/>
            <a:ext cx="891540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1 Waves of the electromagnetic spectrum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lvl="1" marL="668880" indent="-415080">
              <a:spcBef>
                <a:spcPts val="751"/>
              </a:spcBef>
              <a:buClr>
                <a:srgbClr val="0099ff"/>
              </a:buClr>
              <a:buFont typeface="Futura Md B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Radio waves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are on the low-frequency end of the spectrum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lvl="1" marL="668880" indent="-415080">
              <a:spcBef>
                <a:spcPts val="751"/>
              </a:spcBef>
              <a:buClr>
                <a:srgbClr val="0099ff"/>
              </a:buClr>
              <a:buFont typeface="Futura Md B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Microwaves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range in length from approximately 30 cm (about 12 inches) to about 1 mm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lvl="1" marL="668880" indent="-415080">
              <a:spcBef>
                <a:spcPts val="751"/>
              </a:spcBef>
              <a:buClr>
                <a:srgbClr val="0099ff"/>
              </a:buClr>
              <a:buFont typeface="Futura Md B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he</a:t>
            </a: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 infrared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(or IR) region of the electromagnetic spectrum lies between microwaves and visible light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257800" y="2755800"/>
            <a:ext cx="36576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8_6 electspectrum"/>
          <p:cNvPicPr/>
          <p:nvPr/>
        </p:nvPicPr>
        <p:blipFill>
          <a:blip r:embed="rId1"/>
          <a:stretch/>
        </p:blipFill>
        <p:spPr>
          <a:xfrm>
            <a:off x="431640" y="431640"/>
            <a:ext cx="8280720" cy="59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1164960"/>
            <a:ext cx="891540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1 Waves of the electromagnetic spectrum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675720" indent="-419400">
              <a:spcBef>
                <a:spcPts val="751"/>
              </a:spcBef>
              <a:buClr>
                <a:srgbClr val="0099ff"/>
              </a:buClr>
              <a:buFont typeface="Futura Md B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Ultraviolet radiation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has a range of wavelengths from 400 down to about 10 nm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lvl="1" marL="675720" indent="-419400">
              <a:spcBef>
                <a:spcPts val="751"/>
              </a:spcBef>
              <a:buClr>
                <a:srgbClr val="0099ff"/>
              </a:buClr>
              <a:buFont typeface="Futura Md B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X-rays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are high-frequency waves that have great penetrating power and are used extensively in medical and manufacturing applications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lvl="1" marL="675720" indent="-419400">
              <a:spcBef>
                <a:spcPts val="751"/>
              </a:spcBef>
              <a:buClr>
                <a:srgbClr val="0099ff"/>
              </a:buClr>
              <a:buFont typeface="Futura Md B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Gamma rays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are generated in nuclear reactions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262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24_1 electromagneticspec"/>
          <p:cNvPicPr/>
          <p:nvPr/>
        </p:nvPicPr>
        <p:blipFill>
          <a:blip r:embed="rId1"/>
          <a:stretch/>
        </p:blipFill>
        <p:spPr>
          <a:xfrm>
            <a:off x="412920" y="571680"/>
            <a:ext cx="83944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164960"/>
            <a:ext cx="876312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2 Interference, Diffraction, and Polarization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0384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  <a:ea typeface="Times New Roman"/>
              </a:rPr>
              <a:t>Key Question: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marL="257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What are some ways light behaves like a wave?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57200" y="5334120"/>
            <a:ext cx="419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*Students read Section 18.2  AFTER Investigation 18.2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4572000" y="2438280"/>
            <a:ext cx="457200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164960"/>
            <a:ext cx="891540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2 Interference, Diffraction, and Polarization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2406600"/>
            <a:ext cx="40291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28600" indent="-22860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In 1807, Thomas Young (1773-1829) did the most convincing experiment demonstrating that light is a wave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28600" indent="-22860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 beam of light fell on a pair of parallel, very thin slits in a piece of metal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28600" indent="-22860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fter passing through the slits, the light fell on a screen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0" y="4876560"/>
            <a:ext cx="41148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 pattern of alternating bright and dark bands formed is called an </a:t>
            </a: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interference pattern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403884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18_6 interference"/>
          <p:cNvPicPr/>
          <p:nvPr/>
        </p:nvPicPr>
        <p:blipFill>
          <a:blip r:embed="rId1"/>
          <a:stretch/>
        </p:blipFill>
        <p:spPr>
          <a:xfrm>
            <a:off x="469800" y="565200"/>
            <a:ext cx="820440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2 Diffraction gratings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diffraction grating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is a precise array of tiny engraved lines, each of which allows light through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57040" indent="-2570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spectrum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produced is a mixture of many different wavelengths of light. 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41911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7360" y="1165320"/>
            <a:ext cx="84171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Unit 6: Light and Optics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30481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44080" indent="-244080">
              <a:spcBef>
                <a:spcPts val="2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Futura Md BT"/>
              </a:rPr>
              <a:t>18.1 The Electromagnetic Spectrum</a:t>
            </a:r>
            <a:endParaRPr b="1" lang="en-US" sz="3200" spc="-1" strike="noStrike">
              <a:solidFill>
                <a:srgbClr val="0000ff"/>
              </a:solidFill>
              <a:latin typeface="Futura Md BT"/>
            </a:endParaRPr>
          </a:p>
          <a:p>
            <a:pPr marL="244080" indent="-244080">
              <a:spcBef>
                <a:spcPts val="2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Futura Md BT"/>
              </a:rPr>
              <a:t>18.2 Interference, Diffraction, and </a:t>
            </a:r>
            <a:r>
              <a:rPr b="1" lang="en-US" sz="3200" spc="-1" strike="noStrike">
                <a:solidFill>
                  <a:srgbClr val="0000ff"/>
                </a:solidFill>
                <a:latin typeface="Futura Md BT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Futura Md BT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Futura Md BT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Futura Md BT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Futura Md BT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Futura Md BT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Futura Md BT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Futura Md BT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Futura Md BT"/>
              </a:rPr>
              <a:t>Polarization</a:t>
            </a:r>
            <a:endParaRPr b="1" lang="en-US" sz="3200" spc="-1" strike="noStrike">
              <a:solidFill>
                <a:srgbClr val="0000ff"/>
              </a:solidFill>
              <a:latin typeface="Futura Md BT"/>
            </a:endParaRPr>
          </a:p>
          <a:p>
            <a:pPr marL="244080" indent="-244080">
              <a:spcBef>
                <a:spcPts val="2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Futura Md BT"/>
              </a:rPr>
              <a:t>18.3 Special Relativity</a:t>
            </a:r>
            <a:endParaRPr b="1" lang="en-US" sz="32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79920" y="1752480"/>
            <a:ext cx="7315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Futura Md BT"/>
              </a:rPr>
              <a:t>Chapter 18 Wave Properties of Light</a:t>
            </a:r>
            <a:endParaRPr b="0" lang="en-US" sz="3200" spc="-1" strike="noStrike">
              <a:solidFill>
                <a:srgbClr val="000099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2 How a Diffraction Grating Works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647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51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When you look at a diffracted light you see: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lvl="1" marL="668880" indent="-415080">
              <a:spcBef>
                <a:spcPts val="751"/>
              </a:spcBef>
              <a:buClr>
                <a:srgbClr val="0099ff"/>
              </a:buClr>
              <a:buFont typeface="Futura Md B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he light straight ahead as if the grating were transparent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lvl="1" marL="668880" indent="-415080">
              <a:spcBef>
                <a:spcPts val="751"/>
              </a:spcBef>
              <a:buClr>
                <a:srgbClr val="0099ff"/>
              </a:buClr>
              <a:buFont typeface="Futura Md B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 "</a:t>
            </a: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central bright spot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"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lvl="1" marL="668880" indent="-415080">
              <a:spcBef>
                <a:spcPts val="751"/>
              </a:spcBef>
              <a:buClr>
                <a:srgbClr val="0099ff"/>
              </a:buClr>
              <a:buFont typeface="Futura Md B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he interference of all other light waves from many different grooves produces a scattered pattern called a </a:t>
            </a: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spectrum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17913" r="0" b="0"/>
          <a:stretch/>
        </p:blipFill>
        <p:spPr>
          <a:xfrm>
            <a:off x="5105520" y="1752480"/>
            <a:ext cx="3902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2 Spectrometer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51640" indent="-2516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spectrometer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is a device that measures the wavelength of light. 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51640" indent="-2516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 diffraction grating can be used to make a spectrometer because the wavelength of the light at the first-order bright spot can be expressed in a mathematical relationship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4724280" y="2154240"/>
            <a:ext cx="426744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2 Grating Formula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971800" y="3048120"/>
            <a:ext cx="3733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Symbol"/>
              </a:rPr>
              <a:t></a:t>
            </a:r>
            <a:r>
              <a:rPr b="1" lang="en-US" sz="3600" spc="-1" strike="noStrike">
                <a:solidFill>
                  <a:srgbClr val="003399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Gill Sans MT"/>
              </a:rPr>
              <a:t>= d sin</a:t>
            </a:r>
            <a:r>
              <a:rPr b="1" lang="en-US" sz="3600" spc="-1" strike="noStrike">
                <a:solidFill>
                  <a:srgbClr val="003399"/>
                </a:solidFill>
                <a:latin typeface="Symbol"/>
              </a:rPr>
              <a:t></a:t>
            </a:r>
            <a:r>
              <a:rPr b="1" lang="en-US" sz="3600" spc="-1" strike="noStrike" u="sng">
                <a:solidFill>
                  <a:srgbClr val="003399"/>
                </a:solidFill>
                <a:uFillTx/>
                <a:latin typeface="Gill Sans MT"/>
              </a:rPr>
              <a:t>dw</a:t>
            </a:r>
            <a:endParaRPr b="0" lang="en-US" sz="3600" spc="-1" strike="noStrike">
              <a:solidFill>
                <a:srgbClr val="000099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ill Sans MT"/>
              </a:rPr>
              <a:t>      </a:t>
            </a:r>
            <a:r>
              <a:rPr b="1" lang="en-US" sz="3600" spc="-1" strike="noStrike">
                <a:solidFill>
                  <a:srgbClr val="003399"/>
                </a:solidFill>
                <a:latin typeface="Gill Sans MT"/>
              </a:rPr>
              <a:t>	</a:t>
            </a:r>
            <a:r>
              <a:rPr b="1" lang="en-US" sz="3600" spc="-1" strike="noStrike">
                <a:solidFill>
                  <a:srgbClr val="003399"/>
                </a:solidFill>
                <a:latin typeface="Gill Sans MT"/>
              </a:rPr>
              <a:t>	</a:t>
            </a:r>
            <a:r>
              <a:rPr b="1" lang="en-US" sz="3600" spc="-1" strike="noStrike">
                <a:solidFill>
                  <a:srgbClr val="003399"/>
                </a:solidFill>
                <a:latin typeface="Gill Sans MT"/>
              </a:rPr>
              <a:t>     </a:t>
            </a:r>
            <a:r>
              <a:rPr b="1" lang="en-US" sz="3600" spc="-1" strike="noStrike">
                <a:solidFill>
                  <a:srgbClr val="003399"/>
                </a:solidFill>
                <a:latin typeface="Gill Sans MT"/>
              </a:rPr>
              <a:t>L</a:t>
            </a:r>
            <a:endParaRPr b="0" lang="en-US" sz="36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53" name="Line 4"/>
          <p:cNvSpPr/>
          <p:nvPr/>
        </p:nvSpPr>
        <p:spPr>
          <a:xfrm flipV="1">
            <a:off x="3962520" y="2666520"/>
            <a:ext cx="304560" cy="38124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6172200" y="4133880"/>
            <a:ext cx="380880" cy="51444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55" name="Line 6"/>
          <p:cNvSpPr/>
          <p:nvPr/>
        </p:nvSpPr>
        <p:spPr>
          <a:xfrm flipH="1">
            <a:off x="2133720" y="3371760"/>
            <a:ext cx="6285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517480" y="2162160"/>
            <a:ext cx="52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distance between grating lines (m)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774760" y="4619520"/>
            <a:ext cx="284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distance 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between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screen and glasses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42280" y="2971800"/>
            <a:ext cx="1882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wavelength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of light (nm)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1381680" y="6035760"/>
            <a:ext cx="475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d= 13,500 lines/inch = ? lines/m 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5486400" y="2762280"/>
            <a:ext cx="304920" cy="4572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6794640" y="2819520"/>
            <a:ext cx="2197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distance between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2 first order bright spots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62" name="Line 13"/>
          <p:cNvSpPr/>
          <p:nvPr/>
        </p:nvSpPr>
        <p:spPr>
          <a:xfrm flipH="1">
            <a:off x="6553080" y="3352680"/>
            <a:ext cx="60984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2 Polarization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Polarization is another wave property of light. 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57040" indent="-2570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he fact that light shows polarization tells us that light is a </a:t>
            </a: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transverse wave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65" name="Picture 10" descr=""/>
          <p:cNvPicPr/>
          <p:nvPr/>
        </p:nvPicPr>
        <p:blipFill>
          <a:blip r:embed="rId1"/>
          <a:stretch/>
        </p:blipFill>
        <p:spPr>
          <a:xfrm>
            <a:off x="2819520" y="3270240"/>
            <a:ext cx="419076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18_6 polarization"/>
          <p:cNvPicPr/>
          <p:nvPr/>
        </p:nvPicPr>
        <p:blipFill>
          <a:blip r:embed="rId1"/>
          <a:stretch/>
        </p:blipFill>
        <p:spPr>
          <a:xfrm>
            <a:off x="571680" y="476280"/>
            <a:ext cx="8001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2 Polarization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39625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Polarization is a vector. 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57040" indent="-2570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 wave with polarization at 45 degrees can be represented as the sum of two waves. 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57040" indent="-2570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Each of the component waves has smaller amplitude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1"/>
          <a:stretch/>
        </p:blipFill>
        <p:spPr>
          <a:xfrm>
            <a:off x="4711680" y="1905120"/>
            <a:ext cx="4432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18_6 polarizers"/>
          <p:cNvPicPr/>
          <p:nvPr/>
        </p:nvPicPr>
        <p:blipFill>
          <a:blip r:embed="rId1"/>
          <a:stretch/>
        </p:blipFill>
        <p:spPr>
          <a:xfrm>
            <a:off x="469800" y="457200"/>
            <a:ext cx="8204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2 Polarization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00160" indent="-20016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polarizer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is a material that selectively absorbs light depending on polarization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00160" indent="-20016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 polarizer re-emits a fraction of incident light polarized at an angle to the transmission axis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2133720" y="3720960"/>
            <a:ext cx="472428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2 Applications of Polarizers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5720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Polarizing sunglasses are used to reduce the glare of reflected light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57040" indent="-2570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he LCD (liquid crystal diode) screen on a laptop computer uses polarized light to make pictures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5334120" y="1895400"/>
            <a:ext cx="3124080" cy="2371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2"/>
          <a:stretch/>
        </p:blipFill>
        <p:spPr>
          <a:xfrm>
            <a:off x="1600200" y="4724280"/>
            <a:ext cx="67816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165320"/>
            <a:ext cx="87631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3 Special Relativity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  <a:ea typeface="Times New Roman"/>
              </a:rPr>
              <a:t>Key Question: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marL="257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What are some of the implications of special relativity?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457200" y="5334120"/>
            <a:ext cx="419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*Students read Section 18.3  AFTER Investigation 18.3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rcRect l="0" t="16083" r="0" b="32146"/>
          <a:stretch/>
        </p:blipFill>
        <p:spPr>
          <a:xfrm>
            <a:off x="4876920" y="2743200"/>
            <a:ext cx="4222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7960" y="1096920"/>
            <a:ext cx="72597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Chapter 18 Objectives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98960" indent="-498960">
              <a:lnSpc>
                <a:spcPct val="90000"/>
              </a:lnSpc>
              <a:spcBef>
                <a:spcPts val="711"/>
              </a:spcBef>
              <a:buClr>
                <a:srgbClr val="0099ff"/>
              </a:buClr>
              <a:buFont typeface="Futura M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Calculate the frequency or wavelength of light when given one of the two.</a:t>
            </a:r>
            <a:endParaRPr b="1" lang="en-US" sz="2300" spc="-1" strike="noStrike">
              <a:solidFill>
                <a:srgbClr val="0000ff"/>
              </a:solidFill>
              <a:latin typeface="Futura Md BT"/>
            </a:endParaRPr>
          </a:p>
          <a:p>
            <a:pPr marL="498960" indent="-498960">
              <a:lnSpc>
                <a:spcPct val="90000"/>
              </a:lnSpc>
              <a:spcBef>
                <a:spcPts val="711"/>
              </a:spcBef>
              <a:buClr>
                <a:srgbClr val="0099ff"/>
              </a:buClr>
              <a:buFont typeface="Futura M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Describe the relationship between frequency, energy, color, and wavelength.</a:t>
            </a:r>
            <a:endParaRPr b="1" lang="en-US" sz="2300" spc="-1" strike="noStrike">
              <a:solidFill>
                <a:srgbClr val="0000ff"/>
              </a:solidFill>
              <a:latin typeface="Futura Md BT"/>
            </a:endParaRPr>
          </a:p>
          <a:p>
            <a:pPr marL="498960" indent="-498960">
              <a:lnSpc>
                <a:spcPct val="90000"/>
              </a:lnSpc>
              <a:spcBef>
                <a:spcPts val="711"/>
              </a:spcBef>
              <a:buClr>
                <a:srgbClr val="0099ff"/>
              </a:buClr>
              <a:buFont typeface="Futura M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Identify at least three different waves of the electromagnetic spectrum and an application of each.</a:t>
            </a:r>
            <a:endParaRPr b="1" lang="en-US" sz="2300" spc="-1" strike="noStrike">
              <a:solidFill>
                <a:srgbClr val="0000ff"/>
              </a:solidFill>
              <a:latin typeface="Futura Md BT"/>
            </a:endParaRPr>
          </a:p>
          <a:p>
            <a:pPr marL="498960" indent="-498960">
              <a:lnSpc>
                <a:spcPct val="90000"/>
              </a:lnSpc>
              <a:spcBef>
                <a:spcPts val="711"/>
              </a:spcBef>
              <a:buClr>
                <a:srgbClr val="0099ff"/>
              </a:buClr>
              <a:buFont typeface="Futura M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Interpret the interference pattern from a diffraction grating.</a:t>
            </a:r>
            <a:endParaRPr b="1" lang="en-US" sz="2300" spc="-1" strike="noStrike">
              <a:solidFill>
                <a:srgbClr val="0000ff"/>
              </a:solidFill>
              <a:latin typeface="Futura Md BT"/>
            </a:endParaRPr>
          </a:p>
          <a:p>
            <a:pPr marL="498960" indent="-498960">
              <a:lnSpc>
                <a:spcPct val="90000"/>
              </a:lnSpc>
              <a:spcBef>
                <a:spcPts val="711"/>
              </a:spcBef>
              <a:buClr>
                <a:srgbClr val="0099ff"/>
              </a:buClr>
              <a:buFont typeface="Futura M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Use the concept of polarization to explain what happens as light passes through two polarizers.</a:t>
            </a:r>
            <a:endParaRPr b="1" lang="en-US" sz="2300" spc="-1" strike="noStrike">
              <a:solidFill>
                <a:srgbClr val="0000ff"/>
              </a:solidFill>
              <a:latin typeface="Futura Md BT"/>
            </a:endParaRPr>
          </a:p>
          <a:p>
            <a:pPr marL="498960" indent="-498960">
              <a:lnSpc>
                <a:spcPct val="90000"/>
              </a:lnSpc>
              <a:spcBef>
                <a:spcPts val="711"/>
              </a:spcBef>
              <a:buClr>
                <a:srgbClr val="0099ff"/>
              </a:buClr>
              <a:buFont typeface="Futura M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Describe at least two implications of special relativity with regards to energy, time, mass, or distance.</a:t>
            </a:r>
            <a:endParaRPr b="1" lang="en-US" sz="23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3 Special Relativity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358164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spcBef>
                <a:spcPts val="87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The theory of </a:t>
            </a:r>
            <a:r>
              <a:rPr b="0" lang="en-US" sz="2800" spc="-1" strike="noStrike">
                <a:solidFill>
                  <a:srgbClr val="ff0000"/>
                </a:solidFill>
                <a:latin typeface="Futura Md BT"/>
              </a:rPr>
              <a:t>special relativity</a:t>
            </a: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 describes what happens to matter, energy, time, and space at speeds close to the speed of light.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marL="257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rcRect l="5839" t="0" r="4186" b="0"/>
          <a:stretch/>
        </p:blipFill>
        <p:spPr>
          <a:xfrm>
            <a:off x="5143680" y="1143000"/>
            <a:ext cx="3619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3 Special Relativity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82105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These effects are observed in physics labs: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lvl="1" marL="716040" indent="-457200">
              <a:spcBef>
                <a:spcPts val="751"/>
              </a:spcBef>
              <a:buClr>
                <a:srgbClr val="0099ff"/>
              </a:buClr>
              <a:buFont typeface="Futura M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ime moves more slowly for an object in motion than it does for objects that are not in motion. This is called </a:t>
            </a: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time dilation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lvl="1" marL="716040" indent="-457200">
              <a:spcBef>
                <a:spcPts val="751"/>
              </a:spcBef>
              <a:buClr>
                <a:srgbClr val="0099ff"/>
              </a:buClr>
              <a:buFont typeface="Futura M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s objects move faster, their mass increases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lvl="1" marL="716040" indent="-457200">
              <a:spcBef>
                <a:spcPts val="751"/>
              </a:spcBef>
              <a:buClr>
                <a:srgbClr val="0099ff"/>
              </a:buClr>
              <a:buFont typeface="Futura M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he definition of the word “simultaneous” changes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lvl="1" marL="716040" indent="-457200">
              <a:spcBef>
                <a:spcPts val="751"/>
              </a:spcBef>
              <a:buClr>
                <a:srgbClr val="0099ff"/>
              </a:buClr>
              <a:buFont typeface="Futura M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Space itself gets smaller for an  observer moving near the speed of light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3 Speed of light paradox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474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The theory of special relativity comes from thinking about </a:t>
            </a:r>
            <a:r>
              <a:rPr b="1" lang="en-US" sz="2800" spc="-1" strike="noStrike">
                <a:solidFill>
                  <a:srgbClr val="ff0000"/>
                </a:solidFill>
                <a:latin typeface="Futura Md BT"/>
              </a:rPr>
              <a:t>light</a:t>
            </a: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.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38480" y="3124080"/>
            <a:ext cx="464832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41560" indent="-24156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 ball thrown from a moving train approaches you at the speed of the ball relative to the trai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Futura Md BT"/>
              </a:rPr>
              <a:t>plus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the speed of the train relative to you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41560" indent="-24156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he speed of light appears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Futura Md BT"/>
              </a:rPr>
              <a:t>same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to all observers independent of their relative motion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914400" y="3075120"/>
            <a:ext cx="1967040" cy="1039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322200" y="4417920"/>
            <a:ext cx="3411720" cy="1022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52280" y="5535720"/>
            <a:ext cx="373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3 Speed of light paradox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501480" indent="-50148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If the person on the train were to shine a flashlight toward you, you would expect the light to approach you faster. 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501480" indent="-50148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he light should come toward you at 3 × 10</a:t>
            </a:r>
            <a:r>
              <a:rPr b="1" lang="en-US" sz="2400" spc="-1" strike="noStrike" baseline="30000">
                <a:solidFill>
                  <a:srgbClr val="0000ff"/>
                </a:solidFill>
                <a:latin typeface="Futura Md BT"/>
              </a:rPr>
              <a:t>8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m/sec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Futura Md BT"/>
              </a:rPr>
              <a:t>plus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the speed of the train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501480" indent="-50148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But Michelson and Morley found experimentally that the light comes toward you at a speed of 3 × 10</a:t>
            </a:r>
            <a:r>
              <a:rPr b="1" lang="en-US" sz="2400" spc="-1" strike="noStrike" baseline="30000">
                <a:solidFill>
                  <a:srgbClr val="0000ff"/>
                </a:solidFill>
                <a:latin typeface="Futura Md BT"/>
              </a:rPr>
              <a:t>8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m/sec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Futura Md BT"/>
              </a:rPr>
              <a:t>no matter how fast the train approaches you!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76320" y="5330880"/>
            <a:ext cx="4495680" cy="1527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"/>
          <p:cNvPicPr/>
          <p:nvPr/>
        </p:nvPicPr>
        <p:blipFill>
          <a:blip r:embed="rId2"/>
          <a:srcRect l="0" t="5062" r="2357" b="0"/>
          <a:stretch/>
        </p:blipFill>
        <p:spPr>
          <a:xfrm>
            <a:off x="4572000" y="5362560"/>
            <a:ext cx="44956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3 Consequences of time dilation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In the early 1970s an experiment was performed by synchronizing two precise atomic clocks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533520" indent="-5335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One was put on a plane and flown around the world, the other was left on the ground. 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533520" indent="-5335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When the flying clock returned home, the clocks were compared. 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533520" indent="-5335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he clock on the plane measured less time than the clock on the ground. The difference agreed precisely with special relativity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3 Einstein's formula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603600" y="3962520"/>
            <a:ext cx="1828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Symbol"/>
              </a:rPr>
              <a:t></a:t>
            </a:r>
            <a:r>
              <a:rPr b="1" lang="en-US" sz="3600" spc="-1" strike="noStrike">
                <a:solidFill>
                  <a:srgbClr val="003399"/>
                </a:solidFill>
                <a:latin typeface="Gill Sans MT"/>
              </a:rPr>
              <a:t>mc</a:t>
            </a:r>
            <a:r>
              <a:rPr b="1" lang="en-US" sz="3600" spc="-1" strike="noStrike" baseline="30000">
                <a:solidFill>
                  <a:srgbClr val="003399"/>
                </a:solidFill>
                <a:latin typeface="Gill Sans MT"/>
              </a:rPr>
              <a:t>2</a:t>
            </a:r>
            <a:endParaRPr b="0" lang="en-US" sz="36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4746600" y="4572000"/>
            <a:ext cx="380880" cy="51444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2689200" y="4286160"/>
            <a:ext cx="6285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5032800" y="5257800"/>
            <a:ext cx="144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Mass (kg)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013760" y="4130640"/>
            <a:ext cx="144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Energy (J)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6041880" y="4038480"/>
            <a:ext cx="2197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speed of light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3.0 x10</a:t>
            </a:r>
            <a:r>
              <a:rPr b="1" lang="en-US" sz="2400" spc="-1" strike="noStrike" baseline="30000">
                <a:solidFill>
                  <a:srgbClr val="6699ff"/>
                </a:solidFill>
                <a:latin typeface="Gill Sans MT"/>
              </a:rPr>
              <a:t>8</a:t>
            </a: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 m/sec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06" name="Line 13"/>
          <p:cNvSpPr/>
          <p:nvPr/>
        </p:nvSpPr>
        <p:spPr>
          <a:xfrm flipH="1">
            <a:off x="5279760" y="4343400"/>
            <a:ext cx="60948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2105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spcBef>
                <a:spcPts val="87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This equation tells us that matter and energy are really two forms of the same thing.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1164960"/>
            <a:ext cx="891540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3 The equivalence of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energy and mass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506520" indent="-5065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If a particle of matter is as rest, it has a total amount of energy equal to its </a:t>
            </a: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rest energy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506520" indent="-5065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If work is done to a particle by applying force, the energy of the particle increases. 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506520" indent="-5065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t speeds that are far from the speed of light, all the work done increases the kinetic energy of the particle. 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506520" indent="-5065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It would take a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Futura Md BT"/>
              </a:rPr>
              <a:t>infinite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amount of work to accelerate a particle to the speed of light, because at the speed of light the mass of a particle also becomes infinite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1164960"/>
            <a:ext cx="891540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3 The equivalence of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energy and mass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28120" indent="-5281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Einstein’s was able to deduce the equivalent of mass and energy by thinking about the momentum of two particles moving near the speed of light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528120" indent="-5281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Since the speed of light must be the same for all observers regardless of their relative motion and energy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Futura Md BT"/>
              </a:rPr>
              <a:t>and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momentum must be conserved, as the speed of an object gets near the speed of light, the increase in mass must come from energy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3 Calculate equivalents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90760" y="2057040"/>
            <a:ext cx="4724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49120" indent="-2491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 nuclear reactor converts 0.7% of the mass of uranium to energy. 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49120" indent="-2491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If the reactor used 100 kg of uranium in a year, how much energy is released?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49120" indent="-2491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One gallon of gasoline releases 1.3 × 10</a:t>
            </a:r>
            <a:r>
              <a:rPr b="1" lang="en-US" sz="2400" spc="-1" strike="noStrike" baseline="30000">
                <a:solidFill>
                  <a:srgbClr val="0000ff"/>
                </a:solidFill>
                <a:latin typeface="Futura Md BT"/>
              </a:rPr>
              <a:t>8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joules. 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49120" indent="-2491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How many gallons of gasoline does it take to release the same energy as the uranium?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04812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3 Simultaneity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2406240"/>
            <a:ext cx="8229600" cy="17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he two lightning strikes are simultaneous to the observer at rest, but the observer moving with the train sees the lightning strike the front of the train first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57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2362320" y="3740040"/>
            <a:ext cx="464796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8390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Chapter 18 Vocabulary Terms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38080" y="1752480"/>
            <a:ext cx="3276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x-ray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spectrum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microwave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index of refraction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electromagnetic wave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spectrometer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gamma ray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radio wave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transmission axis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diffraction grating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special relativity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4724280" y="1752480"/>
            <a:ext cx="3657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polarization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polarizer rest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energy destructive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interference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ultraviolet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time dilation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infrared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speed of light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constructive interference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visible light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wavelength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185840"/>
            <a:ext cx="84582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Application: Holography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pic>
        <p:nvPicPr>
          <p:cNvPr id="219" name="Picture 22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538360" cy="2214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3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449604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165320"/>
            <a:ext cx="87631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1 The Electromagnetic Spectrum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466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  <a:ea typeface="Times New Roman"/>
              </a:rPr>
              <a:t>Key Question: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marL="2466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What is the electromagnetic spectrum?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685800" y="5334120"/>
            <a:ext cx="419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*Students read Section 18.1 BEFORE Investigation 18.1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pic>
        <p:nvPicPr>
          <p:cNvPr id="98" name="Picture 22" descr=""/>
          <p:cNvPicPr/>
          <p:nvPr/>
        </p:nvPicPr>
        <p:blipFill>
          <a:blip r:embed="rId1"/>
          <a:stretch/>
        </p:blipFill>
        <p:spPr>
          <a:xfrm>
            <a:off x="5578560" y="2133720"/>
            <a:ext cx="3489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2438280"/>
            <a:ext cx="4267440" cy="34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spcBef>
                <a:spcPts val="87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The energy field created by electricity and magnetism can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Futura Md BT"/>
              </a:rPr>
              <a:t>oscillate</a:t>
            </a:r>
            <a:r>
              <a:rPr b="0" i="1" lang="en-US" sz="2800" spc="-1" strike="noStrike">
                <a:solidFill>
                  <a:srgbClr val="0000ff"/>
                </a:solidFill>
                <a:latin typeface="Futura Md BT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and it supports waves that move.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marL="257040" indent="-257040">
              <a:spcBef>
                <a:spcPts val="87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These waves are called </a:t>
            </a:r>
            <a:r>
              <a:rPr b="0" lang="en-US" sz="2800" spc="-1" strike="noStrike">
                <a:solidFill>
                  <a:srgbClr val="ff0000"/>
                </a:solidFill>
                <a:latin typeface="Futura Md BT"/>
              </a:rPr>
              <a:t>electromagnetic waves</a:t>
            </a: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.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marL="257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1 The Electromagnetic Spectrum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4799160" y="2590920"/>
            <a:ext cx="419256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2133360"/>
            <a:ext cx="45720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4160" indent="-25416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Electromagnetic waves have both an electric part and a magnetic part and the two parts exchange energy back and forth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54160" indent="-25416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 3-D view of an electromagnetic wave shows the electric and magnetic portions. 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1 The Electromagnetic Spectrum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4191120" cy="31939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304920" y="563868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57040" indent="-257040">
              <a:lnSpc>
                <a:spcPct val="100000"/>
              </a:lnSpc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he wavelength and amplitude of the waves are labeled </a:t>
            </a: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λ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, respectively.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28200" y="1828440"/>
            <a:ext cx="82105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he higher the frequency of the light, the higher the energy of the wave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57040" indent="-2570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Since color is related to energy, there is also a direct relation between color, frequency, and wavelength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1 The Electromagnetic Spectrum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pic>
        <p:nvPicPr>
          <p:cNvPr id="108" name="Picture 5" descr="14_2 color"/>
          <p:cNvPicPr/>
          <p:nvPr/>
        </p:nvPicPr>
        <p:blipFill>
          <a:blip r:embed="rId1"/>
          <a:srcRect l="0" t="23627" r="0" b="0"/>
          <a:stretch/>
        </p:blipFill>
        <p:spPr>
          <a:xfrm>
            <a:off x="914400" y="3562200"/>
            <a:ext cx="738504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5840" y="1339920"/>
            <a:ext cx="82119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1 Speed of Light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576600" y="2762280"/>
            <a:ext cx="17845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ill Sans MT"/>
              </a:rPr>
              <a:t>c  =  </a:t>
            </a:r>
            <a:r>
              <a:rPr b="1" lang="en-US" sz="3600" spc="-1" strike="noStrike">
                <a:solidFill>
                  <a:srgbClr val="003399"/>
                </a:solidFill>
                <a:latin typeface="NuptialScript"/>
              </a:rPr>
              <a:t>f  </a:t>
            </a:r>
            <a:r>
              <a:rPr b="1" lang="en-US" sz="3600" spc="-1" strike="noStrike">
                <a:solidFill>
                  <a:srgbClr val="003399"/>
                </a:solidFill>
                <a:latin typeface="Symbol"/>
              </a:rPr>
              <a:t></a:t>
            </a:r>
            <a:r>
              <a:rPr b="1" lang="en-US" sz="3600" spc="-1" strike="noStrike">
                <a:solidFill>
                  <a:srgbClr val="003399"/>
                </a:solidFill>
                <a:latin typeface="Gill Sans MT"/>
              </a:rPr>
              <a:t>      </a:t>
            </a:r>
            <a:endParaRPr b="0" lang="en-US" sz="36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11" name="Line 4"/>
          <p:cNvSpPr/>
          <p:nvPr/>
        </p:nvSpPr>
        <p:spPr>
          <a:xfrm flipV="1">
            <a:off x="5410080" y="2685600"/>
            <a:ext cx="800280" cy="19044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4838760" y="3352680"/>
            <a:ext cx="1162080" cy="59076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13" name="Line 6"/>
          <p:cNvSpPr/>
          <p:nvPr/>
        </p:nvSpPr>
        <p:spPr>
          <a:xfrm flipH="1">
            <a:off x="2895120" y="3029040"/>
            <a:ext cx="6289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6268320" y="2505240"/>
            <a:ext cx="2416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Wavelength (m)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118200" y="3800520"/>
            <a:ext cx="225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Frequency (Hz)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663480" y="2771640"/>
            <a:ext cx="2091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Speed of light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3 x 10</a:t>
            </a:r>
            <a:r>
              <a:rPr b="1" lang="en-US" sz="2400" spc="-1" strike="noStrike" baseline="30000">
                <a:solidFill>
                  <a:srgbClr val="6699ff"/>
                </a:solidFill>
                <a:latin typeface="Gill Sans MT"/>
              </a:rPr>
              <a:t>8</a:t>
            </a: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 m/sec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380880" y="4572000"/>
            <a:ext cx="55911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17:59:36Z</dcterms:created>
  <dc:creator>Patsy DeCoster</dc:creator>
  <dc:description/>
  <dc:language>en-US</dc:language>
  <cp:lastModifiedBy>MSU-IIT IDS</cp:lastModifiedBy>
  <dcterms:modified xsi:type="dcterms:W3CDTF">2011-02-07T17:19:35Z</dcterms:modified>
  <cp:revision>327</cp:revision>
  <dc:subject/>
  <dc:title>PowerPoint Presentation</dc:title>
</cp:coreProperties>
</file>